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7975-A33D-436C-A3E3-F622C56C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008-F8A8-40DD-94D6-2E601885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C7C-35E0-4B19-9361-F44DD259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756-9C19-4DC4-99B8-76F03834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96DB-AA5A-4F7F-A9B3-476A1007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0730-1B1A-4231-9ECA-789AD571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C1B3-8225-4DA3-9CB7-A548CFBB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B5D7-5EC0-4B3D-A3DC-EDE029C8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1073-F8AA-4E00-A9B4-0964AAD4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432C-60C5-4117-86F0-D9C668E6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FCB1-B94C-4730-AE05-BE2814D5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35D2-FD3D-4544-A70A-663AD6A2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9D43-DC94-41B2-9DB8-0731A457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1940-DB0B-47FF-937E-CB587A03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49B0-09C5-45FA-9687-CDA91040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AF93-4739-4228-B3CA-98E4E00A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790E-4ABD-4719-BE31-1283D6A0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A7A-5C63-439F-8652-09280BEA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A01-9491-49A6-9B13-EA601A5D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239-44D4-45D7-92CF-13D17985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B055-BE88-4172-9E2E-74532848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F3F5-CAFD-4738-8E28-7F6C5EFE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684-1094-436C-8EC9-8AB230D5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380-DB16-4B60-9784-1BB86FB6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8BB6-0AA5-437B-AE11-E56C8EA9415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4B2D-3D32-4B91-96A2-1BFEAACD3EB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Картинка 128 из 12931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Заголовок 6" descr=""/>
          <p:cNvPicPr/>
          <p:nvPr/>
        </p:nvPicPr>
        <p:blipFill>
          <a:blip r:embed="rId2"/>
          <a:stretch/>
        </p:blipFill>
        <p:spPr>
          <a:xfrm>
            <a:off x="633240" y="317520"/>
            <a:ext cx="7864560" cy="1262160"/>
          </a:xfrm>
          <a:prstGeom prst="rect">
            <a:avLst/>
          </a:prstGeom>
          <a:ln w="0">
            <a:noFill/>
          </a:ln>
        </p:spPr>
      </p:pic>
      <p:sp>
        <p:nvSpPr>
          <p:cNvPr id="97" name="TextBox 8"/>
          <p:cNvSpPr/>
          <p:nvPr/>
        </p:nvSpPr>
        <p:spPr>
          <a:xfrm>
            <a:off x="928800" y="271476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е название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8" name="Прямоугольник 4" descr=""/>
          <p:cNvPicPr/>
          <p:nvPr/>
        </p:nvPicPr>
        <p:blipFill>
          <a:blip r:embed="rId3"/>
          <a:stretch/>
        </p:blipFill>
        <p:spPr>
          <a:xfrm>
            <a:off x="2328840" y="1316160"/>
            <a:ext cx="4548240" cy="13478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1" descr=""/>
          <p:cNvPicPr/>
          <p:nvPr/>
        </p:nvPicPr>
        <p:blipFill>
          <a:blip r:embed="rId4"/>
          <a:stretch/>
        </p:blipFill>
        <p:spPr>
          <a:xfrm>
            <a:off x="628560" y="3986280"/>
            <a:ext cx="795492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3"/>
          <p:cNvSpPr/>
          <p:nvPr/>
        </p:nvSpPr>
        <p:spPr>
          <a:xfrm>
            <a:off x="3347280" y="6215040"/>
            <a:ext cx="24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Автор: Немчинов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юдмил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Картинка 113 из 129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Заголовок 1" descr=""/>
          <p:cNvPicPr/>
          <p:nvPr/>
        </p:nvPicPr>
        <p:blipFill>
          <a:blip r:embed="rId2"/>
          <a:stretch/>
        </p:blipFill>
        <p:spPr>
          <a:xfrm>
            <a:off x="208080" y="-12600"/>
            <a:ext cx="8727840" cy="2023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43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блемные вопросы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387360" y="521496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предметы: </a:t>
            </a:r>
            <a:r>
              <a:rPr b="1" lang="ru-RU" sz="2800" spc="-1" strike="noStrike">
                <a:solidFill>
                  <a:srgbClr val="1704a4"/>
                </a:solidFill>
                <a:latin typeface="Times New Roman"/>
                <a:ea typeface="Times New Roman"/>
              </a:rPr>
              <a:t>математика, история, географи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704a4"/>
                </a:solidFill>
                <a:latin typeface="Times New Roman"/>
                <a:ea typeface="Times New Roman"/>
              </a:rPr>
              <a:t>учащиеся 10 - 11 классо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71680" y="228600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6" name="TextBox 6" descr=""/>
          <p:cNvPicPr/>
          <p:nvPr/>
        </p:nvPicPr>
        <p:blipFill>
          <a:blip r:embed="rId3"/>
          <a:stretch/>
        </p:blipFill>
        <p:spPr>
          <a:xfrm>
            <a:off x="695160" y="2219400"/>
            <a:ext cx="7637760" cy="931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1857240" y="3143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8" name="TextBox 8" descr=""/>
          <p:cNvPicPr/>
          <p:nvPr/>
        </p:nvPicPr>
        <p:blipFill>
          <a:blip r:embed="rId4"/>
          <a:stretch/>
        </p:blipFill>
        <p:spPr>
          <a:xfrm>
            <a:off x="195120" y="2786040"/>
            <a:ext cx="86202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http://im3-tub.yandex.net/i?id=13868954-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748800" y="357120"/>
            <a:ext cx="50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Дидактические цели проекта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801360" y="2786040"/>
            <a:ext cx="51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Методические задачи проекта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428760" y="3429000"/>
            <a:ext cx="7929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ь у учащихся творческую активность , умение делать обобщения на основе данных , полученных в результате исследовани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ь познавательную деятельность учащихся, которая , в свою очередь способствует развитию разносторонней личност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спитывать у учащихся стремление к самосовершенствованию, удовлетворению познавательных потребност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214200" y="928800"/>
            <a:ext cx="84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349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Познакомить учащихся с понятием пирамиды, ее  элементами, видами пирамид и их свойствам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349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Рассмотреть пирамиды с различных точек зрения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349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Познакомить с историей возникновения пирамид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http://im7-tub.yandex.net/i?id=64276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3582720" y="285840"/>
            <a:ext cx="21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 проекте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428760" y="1000080"/>
            <a:ext cx="835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Проект  предназначен  для изучения темы: Тайны пирамид. В ходе проекта учащиеся работают в группах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349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математик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349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историк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349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географ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Прямоугольник 11"/>
          <p:cNvSpPr/>
          <p:nvPr/>
        </p:nvSpPr>
        <p:spPr>
          <a:xfrm>
            <a:off x="428760" y="32860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Выбор группы происходил самостоятельно, по желанию учащихся. Перед рабочими группами ставятся определенные задач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26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930240" y="500040"/>
            <a:ext cx="37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Задачи по группам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Constanti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714240" y="1143000"/>
            <a:ext cx="7572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Группа “Математики”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зучить пирамиду как геометрическое тело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йти определения пирамиды, которые были сформулированы   древними учеными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равнить современные трактовки с древними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Группа “Историки”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йти материалы о первых пирамидах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зучить древние пирамиды с математической точки зрения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формулировать вывод о значимости пирамид с исторической и математической точек зрения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Группа “Географы</a:t>
            </a:r>
            <a:r>
              <a:rPr b="1" i="1" lang="en-US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”</a:t>
            </a:r>
            <a:r>
              <a:rPr b="1" i="1" lang="ru-RU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становить  месторасположение  пирамид на Земле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яснить высоту каждой пирамиды, определить самую высокую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сследовать уникальные свойства пирамид.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формулировать вывод о расположении пирамид на Земле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ttp://im3-tub.yandex.net/i?id=6321197-04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428760" y="192888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ормы представления результатов исследова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939600" y="2786040"/>
            <a:ext cx="256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л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589320" y="421488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нтроль знаний по пройденному материалу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724680" y="5072040"/>
            <a:ext cx="576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проверочной работы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адывание кроссворд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730080" y="357120"/>
            <a:ext cx="43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роки проведения проекта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357120" y="1071720"/>
            <a:ext cx="878688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предполагается провести в течении 6 уроко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im4-tub.yandex.net/i?id=11494299-03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1221120" y="285840"/>
            <a:ext cx="683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Основная литература для учеников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428760" y="1000080"/>
            <a:ext cx="8429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5ff3c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Погорелов А. В. «Геометрия: учебник для 7 – 11 классов средней школы» , М. : Просвещение, 1992г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2. Геометрия, 10 – 11: Учеб. Для общеобразовательных учреждений / Л.С.Атанасян, В. Ф. Бутузов, С. Б. Кадомцев и др. –  М.: Просвещение, 2002 г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3. </a:t>
            </a:r>
            <a:r>
              <a:rPr b="0" lang="en-US" sz="28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http://www.egyptolog.ru/piramidy/piramidy.htm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4. </a:t>
            </a:r>
            <a:r>
              <a:rPr b="0" lang="en-US" sz="28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http://rutube.ru/tracks/644773.htm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5. </a:t>
            </a:r>
            <a:r>
              <a:rPr b="0" lang="en-US" sz="28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http://www.pyramids.ru/EgyptPyr.htm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07:57Z</dcterms:created>
  <dc:creator>26533</dc:creator>
  <dc:description/>
  <dc:language>en-US</dc:language>
  <cp:lastModifiedBy>26533</cp:lastModifiedBy>
  <dcterms:modified xsi:type="dcterms:W3CDTF">2010-05-21T05:32:19Z</dcterms:modified>
  <cp:revision>36</cp:revision>
  <dc:subject/>
  <dc:title>       Тема учебного проекта Золотое сечение  </dc:title>
</cp:coreProperties>
</file>